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camera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C1D2-20DF-4B28-B4C5-2FB011200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4D98-9638-4320-916B-C1B18FE8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C2DE-1105-4CBA-93A6-587ABB44E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D65E-BE03-49AE-AC22-A0959365E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7A85-DD28-4353-AAA7-F5E7A93F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FFA4-F7E0-4156-B8FA-627F3964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E4F2-47FD-4644-99DC-BCE1DF79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506A-F49C-472A-B75C-6EFEF5F9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6C1B-A641-4358-95E1-7EC17821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B9B5-8F4F-4C69-889F-5D2AF8BE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9332-B1D3-49AF-99E7-29CCAA5E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6B01-095B-4A96-BA5A-3CE909BB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C63A-9154-4F79-BE65-8C2AF70A1B8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55840" y="4556160"/>
            <a:ext cx="670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blar de sucesos que queremos relacionar con el momento presen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oy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sta mañana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sta semana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stos días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stas vacaciones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..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012680"/>
            <a:ext cx="348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L PRETÉRITO PERF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79080" y="4259160"/>
            <a:ext cx="86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so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515960"/>
            <a:ext cx="5286240" cy="2638080"/>
            <a:chOff x="1676520" y="1515960"/>
            <a:chExt cx="5286240" cy="2638080"/>
          </a:xfrm>
        </p:grpSpPr>
        <p:sp>
          <p:nvSpPr>
            <p:cNvPr id="45" name=""/>
            <p:cNvSpPr/>
            <p:nvPr/>
          </p:nvSpPr>
          <p:spPr>
            <a:xfrm>
              <a:off x="1676520" y="2230560"/>
              <a:ext cx="25905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y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tú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él, ella, uste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nosotros/a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vosotros/a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ellos, ellas, ustede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4455720" y="1515960"/>
              <a:ext cx="2507040" cy="652680"/>
              <a:chOff x="4455720" y="1515960"/>
              <a:chExt cx="2507040" cy="652680"/>
            </a:xfrm>
          </p:grpSpPr>
          <p:sp>
            <p:nvSpPr>
              <p:cNvPr id="47" name=""/>
              <p:cNvSpPr/>
              <p:nvPr/>
            </p:nvSpPr>
            <p:spPr>
              <a:xfrm>
                <a:off x="4464000" y="1769760"/>
                <a:ext cx="2498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HABER + Participi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455720" y="1515960"/>
                <a:ext cx="1143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Presente d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" name=""/>
          <p:cNvSpPr/>
          <p:nvPr/>
        </p:nvSpPr>
        <p:spPr>
          <a:xfrm>
            <a:off x="4472640" y="253836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h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71560" y="28353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71920" y="314784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he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67240" y="344484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habé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73000" y="37576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4471560" y="2230560"/>
            <a:ext cx="2161800" cy="1308240"/>
            <a:chOff x="4471560" y="2230560"/>
            <a:chExt cx="2161800" cy="1308240"/>
          </a:xfrm>
        </p:grpSpPr>
        <p:sp>
          <p:nvSpPr>
            <p:cNvPr id="55" name=""/>
            <p:cNvSpPr/>
            <p:nvPr/>
          </p:nvSpPr>
          <p:spPr>
            <a:xfrm>
              <a:off x="4471560" y="22305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8000"/>
                  </a:solidFill>
                  <a:latin typeface="Arial"/>
                </a:rPr>
                <a:t>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639040" y="2522520"/>
              <a:ext cx="94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esta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631120" y="2827440"/>
              <a:ext cx="100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comi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5800" y="3139920"/>
              <a:ext cx="83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vivi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1450440" y="5927760"/>
            <a:ext cx="349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Me encanta Benedetti.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He le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ído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todos sus libros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53680" y="5049720"/>
            <a:ext cx="27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Hoy me he levantado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 muy tempr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43600" y="5438880"/>
            <a:ext cx="640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uando lo que interesa es si una acción se ha realizado o n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o interesa tanto el momento en que se ha realizado (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alguna vez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varias veces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nunca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..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506760" y="1050840"/>
            <a:ext cx="203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L PARTICIP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04920" y="3429000"/>
            <a:ext cx="5875200" cy="2743200"/>
            <a:chOff x="304920" y="3429000"/>
            <a:chExt cx="5875200" cy="2743200"/>
          </a:xfrm>
        </p:grpSpPr>
        <p:sp>
          <p:nvSpPr>
            <p:cNvPr id="64" name=""/>
            <p:cNvSpPr/>
            <p:nvPr/>
          </p:nvSpPr>
          <p:spPr>
            <a:xfrm>
              <a:off x="304920" y="3429000"/>
              <a:ext cx="586728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8800" y="3552840"/>
              <a:ext cx="57913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SzPct val="10295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Usamos el Participio en el Pretérito Perfecto y con el verbo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star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En el Pretérito Perfecto, el Participio es invariable; sin embargo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on el verbo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star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, el Participio concuerda en género y en númer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on el sujeto, y en número con el verbo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star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76560" y="4726080"/>
            <a:ext cx="2475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n el Pretérito Perfec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Ha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scrit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una carta a Ju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Ha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scrit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un libr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Ha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scrit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unas poesí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Ha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scrit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unos artícul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1743120"/>
            <a:ext cx="289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lgunos participios irregular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04920" y="1676520"/>
            <a:ext cx="2666880" cy="1523880"/>
            <a:chOff x="304920" y="1676520"/>
            <a:chExt cx="2666880" cy="1523880"/>
          </a:xfrm>
        </p:grpSpPr>
        <p:sp>
          <p:nvSpPr>
            <p:cNvPr id="69" name=""/>
            <p:cNvSpPr/>
            <p:nvPr/>
          </p:nvSpPr>
          <p:spPr>
            <a:xfrm>
              <a:off x="304920" y="1676520"/>
              <a:ext cx="266688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6840" y="1760400"/>
              <a:ext cx="133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verbos en -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457920" y="218124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6600"/>
                </a:solidFill>
                <a:latin typeface="Arial"/>
              </a:rPr>
              <a:t>hab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920" y="239400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6600"/>
                </a:solidFill>
                <a:latin typeface="Arial"/>
              </a:rPr>
              <a:t>trabaj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261468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6600"/>
                </a:solidFill>
                <a:latin typeface="Arial"/>
              </a:rPr>
              <a:t>estudi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560" y="28195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6600"/>
                </a:solidFill>
                <a:latin typeface="Arial"/>
              </a:rPr>
              <a:t>e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58840" y="176040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06920" y="218592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habl</a:t>
            </a: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5840" y="2394000"/>
            <a:ext cx="94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trabaj</a:t>
            </a: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05840" y="2614680"/>
            <a:ext cx="9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estudi</a:t>
            </a: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6200" y="281952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est</a:t>
            </a: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41720" y="17524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65400" y="2178000"/>
            <a:ext cx="6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ten</a:t>
            </a: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65040" y="23940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64680" y="2606760"/>
            <a:ext cx="6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viv</a:t>
            </a: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65760" y="281952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84520" y="19051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8320" y="19130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92480" y="5153040"/>
            <a:ext cx="22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a cart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está bien escrit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95720" y="5362560"/>
            <a:ext cx="22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l libr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está bien escrit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96440" y="5578560"/>
            <a:ext cx="28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as poesía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están bien escrit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96080" y="5783400"/>
            <a:ext cx="29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os artículo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están bien escrit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0040" y="4724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n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star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01880" y="20494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11240" y="204948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vi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00800" y="225756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escrib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01880" y="24750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abr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01520" y="268272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hac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02960" y="2262240"/>
            <a:ext cx="76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escr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01520" y="2475000"/>
            <a:ext cx="7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abier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02960" y="2682720"/>
            <a:ext cx="70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hec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01160" y="290340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dic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1880" y="29034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dec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01520" y="31082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po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01160" y="3108240"/>
            <a:ext cx="76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pue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01160" y="3336840"/>
            <a:ext cx="6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v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08720" y="333684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vuel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02240" y="3537000"/>
            <a:ext cx="74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rom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01160" y="353376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ro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01520" y="374184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cubr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00440" y="374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cubier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2240" y="396252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mor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00800" y="396252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muer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89880" y="21859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6600"/>
                </a:solidFill>
                <a:latin typeface="Arial"/>
              </a:rPr>
              <a:t>te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93840" y="239400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6600"/>
                </a:solidFill>
                <a:latin typeface="Arial"/>
              </a:rPr>
              <a:t>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89520" y="2606760"/>
            <a:ext cx="49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6600"/>
                </a:solidFill>
                <a:latin typeface="Arial"/>
              </a:rPr>
              <a:t>viv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95280" y="2819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6600"/>
                </a:solidFill>
                <a:latin typeface="Arial"/>
              </a:rPr>
              <a:t>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048120" y="1676520"/>
            <a:ext cx="2590560" cy="1523880"/>
            <a:chOff x="3048120" y="1676520"/>
            <a:chExt cx="2590560" cy="1523880"/>
          </a:xfrm>
        </p:grpSpPr>
        <p:sp>
          <p:nvSpPr>
            <p:cNvPr id="117" name=""/>
            <p:cNvSpPr/>
            <p:nvPr/>
          </p:nvSpPr>
          <p:spPr>
            <a:xfrm>
              <a:off x="3048120" y="1676520"/>
              <a:ext cx="259056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90600" y="1760400"/>
              <a:ext cx="1610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verbos en -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R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/-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ut thruBlk="true"/>
    <p:sndAc>
      <p:stSnd>
        <p:snd r:embed="rId4" name="camera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77120" y="1219320"/>
            <a:ext cx="547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ALORAR LAS HABILIDADES DE ALGU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4200" y="1905120"/>
            <a:ext cx="4746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na toca la guitarr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uy bie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uis jueg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astante bie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l ten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Yo juego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gular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l ajedre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elip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habla inglé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masiado bie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rt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ant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ada bie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62320" y="402264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Yo (no) s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08760" y="5394240"/>
            <a:ext cx="7634520" cy="398880"/>
            <a:chOff x="608760" y="5394240"/>
            <a:chExt cx="7634520" cy="398880"/>
          </a:xfrm>
        </p:grpSpPr>
        <p:sp>
          <p:nvSpPr>
            <p:cNvPr id="123" name=""/>
            <p:cNvSpPr/>
            <p:nvPr/>
          </p:nvSpPr>
          <p:spPr>
            <a:xfrm>
              <a:off x="608760" y="5394240"/>
              <a:ext cx="763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Puedo nadar / tocar la guitarra / conducir.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Juego la guitarr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685800" y="5442120"/>
              <a:ext cx="761760" cy="304560"/>
              <a:chOff x="685800" y="5442120"/>
              <a:chExt cx="761760" cy="304560"/>
            </a:xfrm>
          </p:grpSpPr>
          <p:sp>
            <p:nvSpPr>
              <p:cNvPr id="125" name=""/>
              <p:cNvSpPr/>
              <p:nvPr/>
            </p:nvSpPr>
            <p:spPr>
              <a:xfrm flipH="1">
                <a:off x="685800" y="5442120"/>
                <a:ext cx="761760" cy="30456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85800" y="5442120"/>
                <a:ext cx="761760" cy="30456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6172200" y="5454720"/>
              <a:ext cx="685440" cy="304560"/>
              <a:chOff x="6172200" y="5454720"/>
              <a:chExt cx="685440" cy="304560"/>
            </a:xfrm>
          </p:grpSpPr>
          <p:sp>
            <p:nvSpPr>
              <p:cNvPr id="128" name=""/>
              <p:cNvSpPr/>
              <p:nvPr/>
            </p:nvSpPr>
            <p:spPr>
              <a:xfrm flipH="1">
                <a:off x="6172200" y="5454720"/>
                <a:ext cx="685440" cy="30456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172200" y="5454720"/>
                <a:ext cx="685440" cy="30456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3792240" y="3773520"/>
            <a:ext cx="228600" cy="917640"/>
            <a:chOff x="3792240" y="3773520"/>
            <a:chExt cx="228600" cy="917640"/>
          </a:xfrm>
        </p:grpSpPr>
        <p:sp>
          <p:nvSpPr>
            <p:cNvPr id="131" name=""/>
            <p:cNvSpPr/>
            <p:nvPr/>
          </p:nvSpPr>
          <p:spPr>
            <a:xfrm>
              <a:off x="3906720" y="3773520"/>
              <a:ext cx="0" cy="91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906720" y="377352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906720" y="469116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792240" y="423684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4027320" y="3733920"/>
            <a:ext cx="128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ad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duci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cin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ut thruBlk="true"/>
    <p:sndAc>
      <p:stSnd>
        <p:snd r:embed="rId2" name="camera.wav"/>
      </p:stSnd>
    </p:sndAc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21:44:18Z</dcterms:created>
  <dc:creator>Tonnelier Bibiana Marta</dc:creator>
  <dc:description/>
  <dc:language>en-US</dc:language>
  <cp:lastModifiedBy>Difusión</cp:lastModifiedBy>
  <cp:lastPrinted>2007-06-19T14:06:16Z</cp:lastPrinted>
  <dcterms:modified xsi:type="dcterms:W3CDTF">2007-06-20T13:25:16Z</dcterms:modified>
  <cp:revision>81</cp:revision>
  <dc:subject/>
  <dc:title>Χωρίς τίτλο διαφάνειας</dc:title>
</cp:coreProperties>
</file>